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80DE-088C-4496-9684-37E04255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7BE-FD82-4124-B440-9AA79BFF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24F-C526-4573-9593-21F8CD26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1D1F-6070-42B0-9FB2-921B5F09F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266F3-B874-4F1C-ACAA-56933544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FA2A-E669-40A6-B1BE-B856159A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0E07-D2AC-431E-8070-4709C70B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0BFD-ADBC-47B9-8E70-C1963D00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AC534-BE4C-4774-93E8-D8A14D91F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6287-CB6D-4769-A83E-532A51F2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0186-F16D-4C39-8FB4-0053D426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E97C-3FCD-4AD4-9472-FA5C8C3B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41C1-64D1-44B6-80EA-765614DC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8DA6-869C-4353-8F6E-BA3DD159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C42C-FF82-41D4-9467-B518DE68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7CAE-2C51-49B3-92C8-1B084136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CC90-4DBE-4FE3-8195-F8104609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B5F-FEDB-4719-962D-837BD968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46FC-101B-465B-83C1-998D06C1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4B4C-93EC-49C8-9EBA-8953EAB8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9FE-AA32-469F-84C4-BAA6FB4C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1C7-108D-4E37-8D11-71D9D347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783-6699-4531-92C4-A41958D9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89B-E328-4ECD-A66A-D7C15DB8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D715-0D34-4410-922A-5E9F5479A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1C10-99A1-4002-BA4B-5BF29C9F1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00000" y="2421000"/>
            <a:ext cx="82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ипы сред обитани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испособленность к н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5589720"/>
            <a:ext cx="43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шакова Л.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Брединская СОШ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 и приспособленность к ней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–по-раз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ровнее, чем на воздух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-недостато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пательные 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лабо развиты органы чув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льно развито обоняние, осяз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наземно-воздуш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744720" cy="2016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3529080" cy="208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24000" y="4005360"/>
            <a:ext cx="3600360" cy="22334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643280" y="3860640"/>
            <a:ext cx="338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Кто занимает водную среду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20000" y="1844640"/>
            <a:ext cx="190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2017800" cy="20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484360" y="1844640"/>
            <a:ext cx="2016360" cy="2017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94328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L -2.77778E-007 0.17826 E">
                                      <p:cBhvr>
                                        <p:cTn id="14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4.45087E-006 L -6.11111E-006 0.24115 E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Кто занимает почвенную среду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3628" t="21326" r="51755" b="32552"/>
          <a:stretch/>
        </p:blipFill>
        <p:spPr>
          <a:xfrm>
            <a:off x="179280" y="1916280"/>
            <a:ext cx="2024280" cy="2041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77080" y="1916280"/>
            <a:ext cx="2014560" cy="208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3280" y="184464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340000" y="1916280"/>
            <a:ext cx="20876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4509E-006 L -0.62222 0.38798 E">
                                      <p:cBhvr>
                                        <p:cTn id="150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Motion origin="layout" path="M 0 0 L 0.63785 0.35653 E">
                                      <p:cBhvr>
                                        <p:cTn id="15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Выберите организмы, живущие в водной среде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020000" y="1628640"/>
            <a:ext cx="1800000" cy="194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643280" y="1628640"/>
            <a:ext cx="1800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7884 L 0.004 0.41433 E">
                                      <p:cBhvr>
                                        <p:cTn id="16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1.44509E-006 L -5.55556E-007 0.30404 E">
                                      <p:cBhvr>
                                        <p:cTn id="16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ыберите правильное утверждение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Летучие мыши населяют наземно-воздуш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У всех водных животных орган передвижения-плав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Изменение температуры воздуха - это фактор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Дельфин и акула имеют внешнее сходство, потому что населяют одну и ту же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Большинство насекомых занимает водную среду об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Пиявки занимают водную среду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а растения оказывают влияние только факторы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У  крота плоские передние лапы с большими когтями, так как он живет в поч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.114-11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162864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Среда обитания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это все то, что окружает организм и прямо или косвенно на него влия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68360" y="47628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3240" y="3130560"/>
            <a:ext cx="29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450864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неживой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24360" y="3213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ятельность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619280" y="1125360"/>
            <a:ext cx="1657440" cy="194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1125360"/>
            <a:ext cx="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1125360"/>
            <a:ext cx="115272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24000" y="333360"/>
            <a:ext cx="51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реда оби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70028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емно-воздуш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1844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0720" y="191628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ч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76360" y="981000"/>
            <a:ext cx="1224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98100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43640" y="981000"/>
            <a:ext cx="1368360" cy="9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22837" t="34236" r="27556" b="-378"/>
          <a:stretch/>
        </p:blipFill>
        <p:spPr>
          <a:xfrm>
            <a:off x="3203640" y="234936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2987640" cy="3645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35640" y="3213000"/>
            <a:ext cx="2808360" cy="36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Наземно-воздушная среда обитания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3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300720" y="1916280"/>
            <a:ext cx="2374920" cy="2304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68360" y="4581360"/>
            <a:ext cx="2232360" cy="2089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788000" y="4581360"/>
            <a:ext cx="2303280" cy="2089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232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- не всегд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- значительно ме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а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нехватке воды- запас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стопад, отлет птиц, смена шер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ктивно передвигаются- бег, прыжки, по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Водная среда обитания.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2376360" cy="2303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303640" cy="2233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63640" y="4221000"/>
            <a:ext cx="2232000" cy="23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03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3419640" y="1628640"/>
            <a:ext cx="216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8472"/>
                </a:solidFill>
                <a:latin typeface="Arial"/>
              </a:rPr>
              <a:t>Характеристика среды обитания и приспособленность к ней.</a:t>
            </a:r>
            <a:endParaRPr b="0" lang="en-US" sz="4000" spc="-1" strike="noStrike">
              <a:solidFill>
                <a:srgbClr val="8a84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ы -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ислорода – не достаточ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мпература – меняется меньш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вет – не достато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способления для пл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тения живут у поверх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отные живут повсеме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9400"/>
            </a:gs>
            <a:gs pos="100000">
              <a:srgbClr val="38b7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a8472"/>
                </a:solidFill>
                <a:latin typeface="Arial"/>
              </a:rPr>
              <a:t>Примеры животных</a:t>
            </a:r>
            <a:endParaRPr b="0" lang="en-US" sz="4400" spc="-1" strike="noStrike">
              <a:solidFill>
                <a:srgbClr val="8a8472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55960"/>
            <a:ext cx="3662280" cy="3519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749" t="21029" r="50938" b="34889"/>
          <a:stretch/>
        </p:blipFill>
        <p:spPr>
          <a:xfrm>
            <a:off x="5003640" y="2060640"/>
            <a:ext cx="35290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6,-86,127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2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3:38:18Z</dcterms:created>
  <dc:creator>User</dc:creator>
  <dc:description/>
  <dc:language>en-US</dc:language>
  <cp:lastModifiedBy>КарМаН</cp:lastModifiedBy>
  <dcterms:modified xsi:type="dcterms:W3CDTF">2011-11-02T13:20:23Z</dcterms:modified>
  <cp:revision>9</cp:revision>
  <dc:subject/>
  <dc:title>Слайд 1</dc:title>
</cp:coreProperties>
</file>